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8.gif" ContentType="image/gi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1B9-66CF-4932-B35B-E5581C60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3A0-3399-42E3-BFAA-9E69677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22A-4B15-4D63-A58D-E1E1DBF0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BBC-6C6F-4B7D-A271-ABB84173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4B65-B485-430F-B572-9A72A1AE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3651-2794-4EC3-9871-38F720A7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66E3-13A8-4632-B2F0-25696361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E6FE-1CAE-4FDC-9E90-82A7A311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AE4A-84F3-421C-9541-7CF72C94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10C3-5C6E-4B8B-B98C-E8D8E464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221D-C91D-49CB-94D0-EC60D71A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88A-1B89-449B-B903-BF1FB906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DE81-EBB0-476F-B2C5-0472D976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E601-4D37-448B-912A-BF27199D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CCA1-893D-46B9-9200-3136C4AB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8F32-0CF7-496F-9B28-A29B15A2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1465-1B20-4C6B-BFD1-1334F3FD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71B-B892-4C12-BD3D-1C3C87CC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E96-C11F-40D3-B244-85F33740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873-AA2F-4095-8531-7B66421B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4AC-15E1-47D0-A818-E30433A0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1F1-E6CF-441F-9485-A68DF84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B08-0B39-44A6-89DC-1D94882E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6EE-FF14-4C44-A6D9-3AD20E38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3A7-8AA5-4D19-B90A-2101D04D96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C2D-0EFE-44CD-BE93-7B0C17A540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he Quilt Story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Vocabulary and Amazing W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Grade Rea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itc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ew or fasten something with stitch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2890800" cy="3841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atch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mall ax with a handle about a foot long, for use with one h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24080" y="3179880"/>
            <a:ext cx="403884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chwor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eces of cloth of various colors or shapes sewed toget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3103560" cy="322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mazing Wor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reserv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repres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valuabl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ugh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row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omelan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serv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keep protected from anything that would cause to be ruined or spoil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3886200"/>
            <a:ext cx="2482560" cy="287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epresen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tand for or symbolize someth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2716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aluabl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th something or importa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710160" cy="3846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oug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thing that is difficult to d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98296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nking about one thing very carefully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347364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row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en you wrinkle your forehead and draw your eyebrows together, usually when you are worried, angry, or thinking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2590920" cy="25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blanke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retend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quil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tuffing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runk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unpack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titch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atche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atchwork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omelan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country in which you were born and where you feel you belong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o wait for something or put up with some trouble without complaining or getting upset.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1325520" cy="363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lanket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ft, warm covering for be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122640" cy="331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tend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ake-believe that something is real when it is no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66880" y="3470400"/>
            <a:ext cx="4496040" cy="313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quil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ft covering for a b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3733920" cy="3514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uffin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 used to fill or pack someth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657600" cy="263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nk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rge boxes for carrying cloth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19520" y="3033720"/>
            <a:ext cx="3962160" cy="314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unpack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take things out that were packed in a box, trunk, or other contain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243684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rapp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over with pap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37778" r="5019" b="11112"/>
          <a:stretch/>
        </p:blipFill>
        <p:spPr>
          <a:xfrm>
            <a:off x="2590920" y="2743200"/>
            <a:ext cx="3809880" cy="312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3:06:14Z</dcterms:created>
  <dc:creator> </dc:creator>
  <dc:description/>
  <dc:language>en-US</dc:language>
  <cp:lastModifiedBy> </cp:lastModifiedBy>
  <dcterms:modified xsi:type="dcterms:W3CDTF">2008-01-15T01:30:55Z</dcterms:modified>
  <cp:revision>3</cp:revision>
  <dc:subject/>
  <dc:title>The Quilt Story Vocabulary and Amazing Words</dc:title>
</cp:coreProperties>
</file>